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DABB-19C7-4F09-A7EA-726B6589A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4942-A93B-48B6-9D12-2A093C850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A0EB-DE01-4007-B931-9B9927823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6AF2-B2B8-4050-9B75-EC6FD1834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DD386-0868-454A-B444-6DE4D5CDA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4E91B-8A1B-4013-81B4-452C283CC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4F1E1-406C-460D-92E8-C4DD4978B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AB064-1AAD-41E9-986B-4A89BA0EF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EE7C5-EA8B-404C-90CA-9350AC657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FA4C8-AE56-43F2-A974-D361D02E3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07717-6CDE-462A-9FA6-4704011D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F838-305A-4BA4-B86B-4A17F075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A631F-659E-4AAA-B11C-C67C999F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B9D7A-C23B-41C5-B453-780C2222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DD4DC-A1ED-4D6D-96C1-1C41D362E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0208A-CE7B-44F4-99D1-DE4531583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C5D69-D2A4-4FC1-A25E-D174447E3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D41E-D9AE-49BF-8517-1409C851C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1C6C-9D83-4EB7-B16C-151AF8B91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1082-4B1C-40E9-8765-6D3CC254D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5A01-2E0D-4CC4-9894-56EC6CCDB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9C76-F58D-4A8E-B9C3-3D43CCD5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4401-EFC7-4751-8659-A3FC5EC7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ECA1-546B-4948-AF90-BE71BEA9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5086-1E5D-4862-B11A-28424159E95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45E26-F53E-4BE2-9555-F204DD3ABB8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1905120" y="1676520"/>
            <a:ext cx="5029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roject Title</a:t>
            </a:r>
            <a:endParaRPr b="0" lang="en-US" sz="1800" spc="1" strike="noStrike">
              <a:ln w="9360">
                <a:solidFill>
                  <a:srgbClr val="00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80880" y="3276720"/>
            <a:ext cx="86108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ogent Bureau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ahoma"/>
              </a:rPr>
              <a:t>Report module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dministrator and officials can generate various reports based on various criteria as and when required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Required Software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Serv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: Apache Tomcat 5.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Database  </a:t>
            </a: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: Orac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Technology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: JAVA/J2EE and Stru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Server Side Scriptin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: JS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Client Side Scriptin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:  Java Scrip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Java Vers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:  JDK1.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Web Designin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: HTML, DHTML, C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Edito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: Edit pl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IDE</a:t>
            </a: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My Eclip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Required Hardwar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ntium IV processor architec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512 MB RA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40 GB Hard Disk Spa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1371600" y="2895480"/>
            <a:ext cx="64771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8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autami"/>
              </a:rPr>
              <a:t>Thank You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autami"/>
              <a:ea typeface="Gautam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stra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isting 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osed 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u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quired Softw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quired Hardw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ABSTRAC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76320" y="1599840"/>
            <a:ext cx="9067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objective of the project is to develop a system that automates the processes and tasks at a collectorate office in a distric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purpose is to design a system that manages all the related information in a systematic manne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system increases productivity and helps employees of collectorate to provide better servic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isting Syste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8423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a3c145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n the present scenario all the information is maintained in files and ledger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a3c145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t is difficult to manage the data efficiently and it is often difficult to search and retrieve the necessary dat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a3c145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ata is often mismanaged and this leads to loss of da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a3c145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eople in need of services have to approach the office and get the things don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oposed System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8390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 proposed system is a web based application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t stores the entire information in a centralized database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is makes it possible to manage the data efficiently and effectively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system allows users to interact with the application and execute various operations, by providing well-defined interfaces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ystem also allows generation of reports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MODUL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34560" y="1599840"/>
            <a:ext cx="79074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dministrator modul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User modul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fficer modul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eport modul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400" spc="-1" strike="noStrike" u="sng">
                <a:solidFill>
                  <a:srgbClr val="ffff00"/>
                </a:solidFill>
                <a:uFillTx/>
                <a:latin typeface="Tahoma"/>
              </a:rPr>
              <a:t>Administrator module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dministrator manages the entire application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ministrator is responsible to issue various certificates such as birth certificate, death certificate, income certificate, residence certificate, caste certificate and other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a3c145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hen a request is made administrator may either approve or reject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dministrator can also assign and allot works and tenders to contracto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ahoma"/>
              </a:rPr>
              <a:t>User module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Users include general public and contractors and people from other service sector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Users can apply for various certificates online and also view the status of request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nterested users can also view and apply for tender notices and similar announcement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ahoma"/>
              </a:rPr>
              <a:t>Officer module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module can be used by police and other public sector department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can view the information for the details of citizens, to ascertain and verify personal details of users, in cases such as passport and certificate issu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04:25:48Z</dcterms:created>
  <dc:creator>jana</dc:creator>
  <dc:description/>
  <dc:language>en-US</dc:language>
  <cp:lastModifiedBy>satya</cp:lastModifiedBy>
  <dcterms:modified xsi:type="dcterms:W3CDTF">2010-01-18T06:07:40Z</dcterms:modified>
  <cp:revision>93</cp:revision>
  <dc:subject/>
  <dc:title>Slide 1</dc:title>
</cp:coreProperties>
</file>