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FA8-CF52-4794-B270-1BC8EF98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521-8CF5-46D3-AF61-D668A5B4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5C8-C324-4989-968A-C54D99F1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19C-EB55-4E95-90C9-7B477764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348E-AD34-42FF-8E87-7D8B3CEA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025A-6AC4-4B08-82AE-5F72D863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E281-4F0B-47D1-A975-740CD5E6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B160-F608-4830-A217-9AE25269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0750-E048-441C-BFCE-DCCA2D22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141C-233F-4E4B-8283-190358A7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0D2C-AEA6-4FEE-BEBC-1A4F8096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802-BC87-492D-B70F-CA477F34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CF8D-7D3E-4C3A-A408-5098DDF8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9A98-4F18-4263-A23C-27558570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37B8-62AC-4A8D-BD04-6DC515BC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DDDE-DFB4-4107-95B7-D5661109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2982-FF94-4439-85CB-7BE89AEB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244-8958-4CFC-9CCF-4DD29231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FA4-FC00-46C9-8B69-93C127D8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88F-FB29-4F73-B317-9178D83D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D54-DE94-460E-864C-BAE688FD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ECE-36E5-4CE5-9DD5-F5177949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11A-AE97-4CEA-A3C7-5745398D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87E-3C11-4878-9111-F294C27C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0000"/>
                  </a:gs>
                  <a:gs pos="100000">
                    <a:srgbClr val="86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790000"/>
                  </a:gs>
                  <a:gs pos="50000">
                    <a:srgbClr val="860000"/>
                  </a:gs>
                  <a:gs pos="100000">
                    <a:srgbClr val="7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DA9B-6A9E-4376-B881-E2C7EC3550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0000"/>
                  </a:gs>
                  <a:gs pos="100000">
                    <a:srgbClr val="86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790000"/>
                  </a:gs>
                  <a:gs pos="50000">
                    <a:srgbClr val="860000"/>
                  </a:gs>
                  <a:gs pos="100000">
                    <a:srgbClr val="7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EAFE-2F6A-4CBB-9D15-FD710431240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onfined Web Spid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86000" y="182880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oject Titl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Jobs Modu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can search jobs based 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ego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ience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ellow Pages Mo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 the  yellow pages, the user can   type the  few letters of the company and find the information like  phone number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bsite, email address  etc details of a Compan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sume Mo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gistered users can post resume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registered user are not allowed to post resu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Software requirement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erating Syste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Window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chnolog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J2EE (JDBC, Servlets, JS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 Technologi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Html, JavaScript, C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 Serv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Tomcat5.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abas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X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ware’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JDK1.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Hardware requirement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tium based systems with a minimum of p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M   : 256MB (minimu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eries ?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320" y="235872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queries if any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ake the search process over internet of most frequently accessed sites eas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ing a database independent applic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 the features of yellow p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isting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itional search engines are very useful tools for searching specific  information in World Wide Web (WWW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they lack the ability to index  and hence search the dynamic content of the web, which is growing at a  much faster rate than the static cont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posed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eb application automates the process of sending queries to these websites using advanced technology and presents the search result from all the sites to the us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developed for easy sear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oftware is developed using state of art, high calibrated, powerful internet setti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very much operational with current technologies and practi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 of the search engine software tool in any organization website is very much practical as it doesn’t demand any other external resources or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523880" y="457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ont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u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min Mo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r Mo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ducts Mo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obs Mo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ellow Pages Mo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sume Mo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dmin Modu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dministrator is having authority to add, delete, modify, details of data which is presented in the datab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User Modul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can search f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ired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bs etc.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can post his /her resumes by registering in this applic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roducts Modu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ser can  search different categories of items 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dw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ron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w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ice supplies etc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2:29:53Z</dcterms:created>
  <dc:creator>SatyA</dc:creator>
  <dc:description/>
  <dc:language>en-US</dc:language>
  <cp:lastModifiedBy>java13</cp:lastModifiedBy>
  <dcterms:modified xsi:type="dcterms:W3CDTF">2010-01-04T23:27:40Z</dcterms:modified>
  <cp:revision>32</cp:revision>
  <dc:subject/>
  <dc:title>Search Engine</dc:title>
</cp:coreProperties>
</file>